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C54-816C-4209-90C9-3CC332F1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B88-CB66-495B-83C7-AC82E1D4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63A-B0E6-487B-8FA4-CC3BCAFF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A8B-A1BE-480F-A497-C2D06677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323A-1168-4019-9992-DD9C0F0D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4748-3155-4229-A9E8-B5495BAD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A625-797D-4E5B-93EA-92BF1D93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687E-4F6E-49B6-8D50-052424C1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645F-FE42-4260-BD08-FD1ECA03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5E8E-C4C7-49CB-A4B2-48F5FAA7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95DB-C54D-41AF-8E4F-B332D8D0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C39-40C0-4C87-8FF5-44A646B9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298B-8334-4E6D-B29B-D8273D25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E292-F19E-4925-A6DC-ADB85F11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06F9-4FDF-4AB6-83E8-350DD75D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4707-29CD-4D77-BAA7-F399D5C3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A4EF-7566-4031-86BE-35769689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8BD-E23A-4FEA-8947-A684147D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224-A034-4D7A-889C-172CC9EF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135-4AC9-439E-A277-B1D9B80D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5CF-8D1D-4CD0-98A9-A066D5E9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9DF-A643-440D-A7A6-64D7B956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A52-2644-473F-9DEC-41EEC486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A8AF-1338-45F5-B1C2-EFF571C2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7428-E119-430C-BBC4-CB77197DE7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D741-EBA5-44DD-A02C-F176125E7EE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132000" y="1628640"/>
            <a:ext cx="32004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3333cc"/>
                </a:solidFill>
                <a:latin typeface="Comic Sans MS"/>
                <a:ea typeface="Arial"/>
              </a:rPr>
              <a:t>Titlul proiectul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328464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Echipa de proi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Nume </a:t>
            </a:r>
            <a:r>
              <a:rPr b="1" lang="ro-RO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și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prenume</a:t>
            </a:r>
            <a:r>
              <a:rPr b="1" lang="ro-RO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,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 c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Unitatea de invatam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32000" y="549360"/>
            <a:ext cx="720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63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cc"/>
                </a:solidFill>
                <a:latin typeface="Comic Sans MS"/>
              </a:rPr>
              <a:t>Întrebările proiectulu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8920" y="2565000"/>
            <a:ext cx="720072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Comic Sans MS"/>
              </a:rPr>
              <a:t>Întrebarea esențial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Comic Sans MS"/>
              </a:rPr>
              <a:t>Întrebările unitatăţii de învăţ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Comic Sans MS"/>
              </a:rPr>
              <a:t>Întrebări de conțin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61920" y="556920"/>
            <a:ext cx="6383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biectivele proiectulu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520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biectiv</a:t>
            </a:r>
            <a:r>
              <a:rPr b="0" lang="ro-RO" sz="3200" spc="-1" strike="noStrike">
                <a:solidFill>
                  <a:srgbClr val="ff3300"/>
                </a:solidFill>
                <a:latin typeface="Comic Sans MS"/>
              </a:rPr>
              <a:t>ul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biectiv</a:t>
            </a:r>
            <a:r>
              <a:rPr b="0" lang="ro-RO" sz="3200" spc="-1" strike="noStrike">
                <a:solidFill>
                  <a:srgbClr val="ff3300"/>
                </a:solidFill>
                <a:latin typeface="Comic Sans MS"/>
              </a:rPr>
              <a:t>ul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3300"/>
                </a:solidFill>
                <a:latin typeface="Comic Sans MS"/>
              </a:rPr>
              <a:t>Obiectivul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06640" y="523800"/>
            <a:ext cx="60004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biectiv 1 - conţin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8920" y="2707920"/>
            <a:ext cx="7219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magin</a:t>
            </a:r>
            <a:r>
              <a:rPr b="0" lang="ro-RO" sz="3200" spc="-1" strike="noStrike">
                <a:solidFill>
                  <a:srgbClr val="ff33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06640" y="523800"/>
            <a:ext cx="60004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3333cc"/>
                </a:solidFill>
                <a:latin typeface="Comic Sans MS"/>
              </a:rPr>
              <a:t>Obiectiv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ro-RO" sz="4400" spc="-1" strike="noStrike">
                <a:solidFill>
                  <a:srgbClr val="3333cc"/>
                </a:solidFill>
                <a:latin typeface="Comic Sans MS"/>
              </a:rPr>
              <a:t> - conţin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18920" y="2707920"/>
            <a:ext cx="7219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magin</a:t>
            </a:r>
            <a:r>
              <a:rPr b="0" lang="ro-RO" sz="3200" spc="-1" strike="noStrike">
                <a:solidFill>
                  <a:srgbClr val="ff33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06640" y="523800"/>
            <a:ext cx="60004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3333cc"/>
                </a:solidFill>
                <a:latin typeface="Comic Sans MS"/>
              </a:rPr>
              <a:t>Obiectiv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ro-RO" sz="4400" spc="-1" strike="noStrike">
                <a:solidFill>
                  <a:srgbClr val="3333cc"/>
                </a:solidFill>
                <a:latin typeface="Comic Sans MS"/>
              </a:rPr>
              <a:t> - conţin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18920" y="2707920"/>
            <a:ext cx="7219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magin</a:t>
            </a:r>
            <a:r>
              <a:rPr b="0" lang="ro-RO" sz="3200" spc="-1" strike="noStrike">
                <a:solidFill>
                  <a:srgbClr val="ff33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cc"/>
                </a:solidFill>
                <a:latin typeface="Comic Sans MS"/>
              </a:rPr>
              <a:t>Concluzii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Comic Sans MS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Comic Sans MS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Comic Sans MS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71640" y="523800"/>
            <a:ext cx="37720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ibliograf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76518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ursa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ursa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3300"/>
                </a:solidFill>
                <a:latin typeface="Comic Sans MS"/>
              </a:rPr>
              <a:t>Sursa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3300"/>
                </a:solidFill>
                <a:latin typeface="Comic Sans MS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9T03:18:03Z</dcterms:created>
  <dc:creator>Adi Sopon</dc:creator>
  <dc:description/>
  <dc:language>en-US</dc:language>
  <cp:lastModifiedBy>Scoala 2</cp:lastModifiedBy>
  <dcterms:modified xsi:type="dcterms:W3CDTF">2011-01-13T17:13:58Z</dcterms:modified>
  <cp:revision>43</cp:revision>
  <dc:subject/>
  <dc:title>Lucrare metodico-ştiinţifică  pentru obţinerea gradului didactic I</dc:title>
</cp:coreProperties>
</file>